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209-8FA9-45B9-B7A0-83B09773C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F9D3-3817-49A0-8D55-E9513E51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7C62-81DB-4D54-841D-982AE2FC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9894-87B2-44BE-A500-9212C97C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719F-8634-4C5E-9366-C481C253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FDF-46BF-42AB-A08F-CE11AD4E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0176-35E3-4748-B95D-14F6AC80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06C9-A278-4108-9D43-7CEE5AAE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1843-11B0-4ECD-8C72-9EA70EF5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B7BA-BF1D-468B-9FC7-9377FFA2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F19D-09D0-42E3-9933-F3F1947D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3E44-F5E8-4BAF-9B70-5E0874C9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5D11-D6D0-42EB-A3FC-05B38ABB7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8600" y="-152280"/>
            <a:ext cx="89154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s Land –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s Bundesland-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e Hauptstadt (die Hauptstädte) – major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e Landeshauptstadt -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e Sehenswürdigkeiten – places to see (p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r Tor –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r Schloss - cas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s Restaurant - restau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s Klima – climate (das Wetter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e Temperatur (Hoch und Tie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rchschnitt von (+ dat.)- averag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urchschnittlich – average (ad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n …. bis (from &amp; to…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mpera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r Fluss (Flüsse) -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r Berg (-e) – mou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r Hügel – hill, die Hügel 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der See (-n) – lak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0" lang="en-US" sz="2400" spc="-1" strike="noStrike">
                <a:solidFill>
                  <a:srgbClr val="c00000"/>
                </a:solidFill>
                <a:latin typeface="Calibri"/>
              </a:rPr>
              <a:t>die See - se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029200" y="1905120"/>
            <a:ext cx="4343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e Hauptgerichte -  main di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e Hauptindustrien – main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le  - a lot of or 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e Marsch – mar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r Wald - f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ach – f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uchtbar – fert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e Grenze – the b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grenzt von…  border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1T15:06:46Z</dcterms:created>
  <dc:creator>temp</dc:creator>
  <dc:description/>
  <dc:language>en-US</dc:language>
  <cp:lastModifiedBy>temp</cp:lastModifiedBy>
  <dcterms:modified xsi:type="dcterms:W3CDTF">2013-05-02T15:33:41Z</dcterms:modified>
  <cp:revision>17</cp:revision>
  <dc:subject/>
  <dc:title>Slide 1</dc:title>
</cp:coreProperties>
</file>